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19.jpeg" ContentType="image/jpeg"/>
  <Override PartName="/ppt/media/image11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D7F-20F6-4683-A29B-21E0B213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EE1-0E89-441E-B88D-D6E68434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6DD-D4E0-4C51-8A80-15B7B4AB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63A-71EE-4A10-8FD4-5380E839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0710-95B6-4EDB-B5E8-7085925E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761D-72C6-4508-9581-35EC3032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2FB2-21D7-43B7-9990-01040029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6CB8-2D6B-4D5E-B1E7-00807E06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3578-E1C3-4516-AD23-062FDCE7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CFEC-C59C-4228-AD7D-21B25AC2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3C56-1D18-4B31-A15B-198E030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44F-2BBC-493F-96F7-911EFB01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D437-E610-481B-A99A-29EC6A8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E97B-7D48-4526-A25B-A90AF9F6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3B61-D227-415A-BF38-C1D83556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94DE-D3FB-4A25-9BA5-47AA1045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6AEE-D738-4E98-8B75-0118ABA8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EC0A-5233-4895-8D7D-27D465FE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BE64-7F88-429D-AE0F-457DD8B3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9258-0378-4647-98B2-491574C5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65E15-BF00-4569-A5FB-2BD43C2A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7A85-8878-4EB1-BB52-F58D537F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6A4-317E-4F73-BF36-DE2ECA9E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2A38-CBF0-4974-A29D-0E557FCE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5C20-5563-4C3C-9FA0-C2B815C0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06C0-AEB0-4FC3-96EC-D3F6898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B6B0-85FF-403D-B908-282E0D0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2793-8553-42E6-83F5-AC612ACA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E8C2-0593-407E-AC71-2E450F35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D38A-3BE4-4F34-ABEB-5DEEFCDF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6481-EE10-4153-A0B3-B052FEDF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809B-D665-4659-AA09-F5507914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3AEE-805F-4E74-8E97-D114B70A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694-D2CF-4DA1-B8AA-46B66770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66E5-F706-454A-951D-3D20382A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EC4FD-6099-408D-823A-6C5B984C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29FC-1F86-4482-97C9-DC10027A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CA55E-CEF7-452C-AF96-9D6CF5B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5E05-DE51-4510-A887-F85C762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3010-C7FC-4275-BABD-70C09A5E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7113-E233-46D6-9050-86C6F13C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039C9-EEAE-42BA-A505-5BCF3B0B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34CA0-1D3C-46D6-A112-0FB040BF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04152-56CD-4DEE-B00F-8E8FE8E8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BDF-4269-4708-B068-5B6CB77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CED3D-9765-418D-AD9C-1E1B1D67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AE75-2E08-4C4E-B57D-ACF5AD80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DDDB3-94AB-4595-BAD3-C84B1855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E75C-9ECA-4106-93F3-47C9B909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A626A-31C6-43FF-B423-A1E2B2C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62C5-F7CC-4D99-8B00-1B0A4610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2A7DA-432B-4DA3-AF01-9153A915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1B8D6-71E2-430C-8788-D10D7A8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6F3E6-562A-48B2-BB46-B5D7A691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4FAF7-BCB3-461F-9995-FF06F56D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26C-EACF-4361-A08F-F0F44E18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83CA7-552F-456D-A20C-A09D2C6B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6D8C-9ACD-4534-9465-164A5D4D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4CDB3-44E6-4627-807E-7B9A19D2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74B1A-6016-4D9B-BCA4-96543F46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BD68B-AD62-4A49-B84A-A78A7562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D4B48-E8A8-4A90-9C31-CA493B2A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03EC-1B8D-43B1-92B6-62D5EB33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02D6-5827-44A1-8961-B473B2D3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91773-5F40-44D7-9C6D-24635ECC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56882-E873-4C6F-AB89-5DC25A9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3F2-1BDE-45A1-9521-71F1764D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3ABDC-A9C1-42D2-B8F4-F7D054B9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2344-C749-400E-A630-933FDD4C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4FB3D-53FC-4058-98BA-73A6860E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6313E-0E9B-438E-8C5B-2FBF9BC2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EE2C-D72A-4F73-9ADB-E72E132C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9B398-94DD-4407-843A-61B547A5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BE16-8D99-45F2-BEE6-273C75D9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1D385-F2D1-47C8-8624-E8FE26AD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0871A-4A61-414E-A91C-A6830A5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8286-F43C-4335-A380-B7174C3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38E-97A7-44E7-9C34-D78465D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6ECC3-3D0C-477E-AB35-B2C5B2D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5463D-EA53-4634-9F68-A67E901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0FBC2-FA32-4C36-BB86-F3CC0BD6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E5B4C-D7E8-4347-9F96-93B8EF13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812F3-177F-495D-A5B9-8CD209B2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57D13-3E6C-4CD5-8DF1-A7565F32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C3727-9729-4697-A6DF-0695318E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DC21-0588-4124-934A-541FA9AE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73441-3127-4928-842B-DC5AC5D9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F78F-B2B5-40D1-823C-ABB26839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BCE-70E3-4862-B143-64689934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241280" y="393840"/>
            <a:ext cx="1011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986F2-E5D1-4B68-9D60-F24305C4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55E00-A692-47D2-8A9C-C3D34C2F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81078-CB6A-4CED-AB06-789AD16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CA630-1AAB-4FCF-A613-5A945EBC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41280" y="3630600"/>
            <a:ext cx="101124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3081B-223E-4715-B751-265E2060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422760" y="127476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4128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22760" y="3630600"/>
            <a:ext cx="49345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3D9FD-6A19-403B-A62F-658D5290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412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020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079480" y="127476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412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466020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8079480" y="3630600"/>
            <a:ext cx="32558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7A1CD-8D2A-4B71-B1AF-28C0EDCF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47b6e7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506D-7EC9-4E44-A15F-4FFAE6E109B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"/>
          <p:cNvSpPr/>
          <p:nvPr/>
        </p:nvSpPr>
        <p:spPr>
          <a:xfrm>
            <a:off x="0" y="4281480"/>
            <a:ext cx="12192120" cy="2060640"/>
          </a:xfrm>
          <a:prstGeom prst="rect">
            <a:avLst/>
          </a:prstGeom>
          <a:solidFill>
            <a:srgbClr val="47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428148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0" y="4005360"/>
            <a:ext cx="12192120" cy="56808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任意多边形 10"/>
          <p:cNvSpPr/>
          <p:nvPr/>
        </p:nvSpPr>
        <p:spPr>
          <a:xfrm>
            <a:off x="5268960" y="2563920"/>
            <a:ext cx="1654200" cy="1917720"/>
          </a:xfrm>
          <a:prstGeom prst="pie">
            <a:avLst/>
          </a:pr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0652-62E9-4D95-A9C1-5D5949A6088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47b6e7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8" name="组合 6"/>
          <p:cNvGrpSpPr/>
          <p:nvPr/>
        </p:nvGrpSpPr>
        <p:grpSpPr>
          <a:xfrm>
            <a:off x="550800" y="409680"/>
            <a:ext cx="546120" cy="593640"/>
            <a:chOff x="550800" y="409680"/>
            <a:chExt cx="546120" cy="593640"/>
          </a:xfrm>
        </p:grpSpPr>
        <p:sp>
          <p:nvSpPr>
            <p:cNvPr id="89" name="MH_Other_1"/>
            <p:cNvSpPr/>
            <p:nvPr/>
          </p:nvSpPr>
          <p:spPr>
            <a:xfrm>
              <a:off x="603000" y="509400"/>
              <a:ext cx="493920" cy="493920"/>
            </a:xfrm>
            <a:prstGeom prst="ellipse">
              <a:avLst/>
            </a:prstGeom>
            <a:solidFill>
              <a:srgbClr val="47b6e7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" name="MH_Other_2"/>
            <p:cNvSpPr/>
            <p:nvPr/>
          </p:nvSpPr>
          <p:spPr>
            <a:xfrm>
              <a:off x="550800" y="409680"/>
              <a:ext cx="298440" cy="298440"/>
            </a:xfrm>
            <a:prstGeom prst="ellipse">
              <a:avLst/>
            </a:prstGeom>
            <a:solidFill>
              <a:srgbClr val="47b6e7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7CEF-AEA6-433B-AB04-912F36363DC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47b6e7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47b6e7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0" y="2816280"/>
            <a:ext cx="1566720" cy="855720"/>
          </a:xfrm>
          <a:prstGeom prst="rect">
            <a:avLst/>
          </a:prstGeom>
          <a:solidFill>
            <a:srgbClr val="47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" name="椭圆 9"/>
          <p:cNvGrpSpPr/>
          <p:nvPr/>
        </p:nvGrpSpPr>
        <p:grpSpPr>
          <a:xfrm>
            <a:off x="1316160" y="1932120"/>
            <a:ext cx="2646360" cy="2646360"/>
            <a:chOff x="1316160" y="1932120"/>
            <a:chExt cx="2646360" cy="2646360"/>
          </a:xfrm>
        </p:grpSpPr>
        <p:pic>
          <p:nvPicPr>
            <p:cNvPr id="136" name="椭圆 9" descr=""/>
            <p:cNvPicPr/>
            <p:nvPr/>
          </p:nvPicPr>
          <p:blipFill>
            <a:blip r:embed="rId2"/>
            <a:stretch/>
          </p:blipFill>
          <p:spPr>
            <a:xfrm>
              <a:off x="1316160" y="1932120"/>
              <a:ext cx="264636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787400" y="2405160"/>
              <a:ext cx="1694160" cy="16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D0E1-E791-4BFE-93DC-0F3ADC92DC1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47b6e7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0" name="组合 7"/>
          <p:cNvGrpSpPr/>
          <p:nvPr/>
        </p:nvGrpSpPr>
        <p:grpSpPr>
          <a:xfrm>
            <a:off x="550800" y="409680"/>
            <a:ext cx="546120" cy="593640"/>
            <a:chOff x="550800" y="409680"/>
            <a:chExt cx="546120" cy="593640"/>
          </a:xfrm>
        </p:grpSpPr>
        <p:sp>
          <p:nvSpPr>
            <p:cNvPr id="181" name="MH_Other_1"/>
            <p:cNvSpPr/>
            <p:nvPr/>
          </p:nvSpPr>
          <p:spPr>
            <a:xfrm>
              <a:off x="603000" y="509400"/>
              <a:ext cx="493920" cy="493920"/>
            </a:xfrm>
            <a:prstGeom prst="ellipse">
              <a:avLst/>
            </a:prstGeom>
            <a:solidFill>
              <a:srgbClr val="47b6e7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" name="MH_Other_2"/>
            <p:cNvSpPr/>
            <p:nvPr/>
          </p:nvSpPr>
          <p:spPr>
            <a:xfrm>
              <a:off x="550800" y="409680"/>
              <a:ext cx="298440" cy="298440"/>
            </a:xfrm>
            <a:prstGeom prst="ellipse">
              <a:avLst/>
            </a:prstGeom>
            <a:solidFill>
              <a:srgbClr val="47b6e7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C58B-D362-4763-AFF3-5B39DA47C33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47b6e7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5" name="图片 6" descr=""/>
          <p:cNvPicPr/>
          <p:nvPr/>
        </p:nvPicPr>
        <p:blipFill>
          <a:blip r:embed="rId2"/>
          <a:stretch/>
        </p:blipFill>
        <p:spPr>
          <a:xfrm>
            <a:off x="8410680" y="996840"/>
            <a:ext cx="3781440" cy="2695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E576-926C-448B-A764-09905356736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47b6e7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矩形 7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47b6e7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BDBD-45B8-43A4-8FEF-BA28DDA3E9C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矩形 6"/>
          <p:cNvSpPr/>
          <p:nvPr/>
        </p:nvSpPr>
        <p:spPr>
          <a:xfrm>
            <a:off x="0" y="6399360"/>
            <a:ext cx="12192120" cy="458640"/>
          </a:xfrm>
          <a:prstGeom prst="rect">
            <a:avLst/>
          </a:prstGeom>
          <a:gradFill rotWithShape="0">
            <a:gsLst>
              <a:gs pos="0">
                <a:srgbClr val="47b6e7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矩形 7"/>
          <p:cNvSpPr/>
          <p:nvPr/>
        </p:nvSpPr>
        <p:spPr>
          <a:xfrm>
            <a:off x="2786040" y="1757520"/>
            <a:ext cx="3183120" cy="3873240"/>
          </a:xfrm>
          <a:prstGeom prst="rect">
            <a:avLst/>
          </a:prstGeom>
          <a:solidFill>
            <a:srgbClr val="eeeeee"/>
          </a:solidFill>
          <a:ln w="936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41280" y="1274760"/>
            <a:ext cx="1011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01"/>
              </a:spcBef>
              <a:buClr>
                <a:srgbClr val="47b6e7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12880" indent="-27648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8380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4038480" y="6458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8610480" y="64580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28D1-A7C7-4C87-8D76-3044F52351A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内容占位符 3" descr="1447381800306_463"/>
          <p:cNvPicPr/>
          <p:nvPr/>
        </p:nvPicPr>
        <p:blipFill>
          <a:blip r:embed="rId1"/>
          <a:stretch/>
        </p:blipFill>
        <p:spPr>
          <a:xfrm>
            <a:off x="7920" y="1117440"/>
            <a:ext cx="12211200" cy="4588200"/>
          </a:xfrm>
          <a:prstGeom prst="rect">
            <a:avLst/>
          </a:prstGeom>
          <a:ln w="0">
            <a:noFill/>
          </a:ln>
        </p:spPr>
      </p:pic>
      <p:pic>
        <p:nvPicPr>
          <p:cNvPr id="354" name="标题 1" descr=""/>
          <p:cNvPicPr/>
          <p:nvPr/>
        </p:nvPicPr>
        <p:blipFill>
          <a:blip r:embed="rId2"/>
          <a:stretch/>
        </p:blipFill>
        <p:spPr>
          <a:xfrm>
            <a:off x="1158840" y="231840"/>
            <a:ext cx="7083360" cy="10112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28840" y="1839960"/>
            <a:ext cx="101217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周华健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朋友           小虎队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爱          任贤齐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兄弟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高进，小沈阳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兄弟     李小杰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朋友的酒    吕方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朋友别哭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庞龙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兄弟干杯         那英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姐妹弟兄      张伟文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友谊之光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黑鸭子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---</a:t>
            </a:r>
            <a:r>
              <a:rPr b="1" lang="zh-CN" sz="1800" spc="-1" strike="noStrike">
                <a:solidFill>
                  <a:srgbClr val="5f5f5f"/>
                </a:solidFill>
                <a:latin typeface="黑体"/>
              </a:rPr>
              <a:t>友谊地久天长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标题 1"/>
          <p:cNvSpPr/>
          <p:nvPr/>
        </p:nvSpPr>
        <p:spPr>
          <a:xfrm>
            <a:off x="739800" y="835200"/>
            <a:ext cx="4411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200" spc="-1" strike="noStrike">
                <a:solidFill>
                  <a:srgbClr val="47b6e7"/>
                </a:solidFill>
                <a:latin typeface="Arial"/>
              </a:rPr>
              <a:t>歌曲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内容占位符 2"/>
          <p:cNvSpPr/>
          <p:nvPr/>
        </p:nvSpPr>
        <p:spPr>
          <a:xfrm>
            <a:off x="1111320" y="4410000"/>
            <a:ext cx="9759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选择你喜欢的一首歌曲，抽空唱给你的朋友，分享快乐，收获友谊。</a:t>
            </a:r>
            <a:endParaRPr b="0" lang="en-US" sz="33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标题 1" descr=""/>
          <p:cNvPicPr/>
          <p:nvPr/>
        </p:nvPicPr>
        <p:blipFill>
          <a:blip r:embed="rId1"/>
          <a:stretch/>
        </p:blipFill>
        <p:spPr>
          <a:xfrm>
            <a:off x="884160" y="1200240"/>
            <a:ext cx="10264680" cy="860400"/>
          </a:xfrm>
          <a:prstGeom prst="rect">
            <a:avLst/>
          </a:prstGeom>
          <a:ln w="0">
            <a:noFill/>
          </a:ln>
        </p:spPr>
      </p:pic>
      <p:pic>
        <p:nvPicPr>
          <p:cNvPr id="394" name="内容占位符 3" descr=""/>
          <p:cNvPicPr/>
          <p:nvPr/>
        </p:nvPicPr>
        <p:blipFill>
          <a:blip r:embed="rId2"/>
          <a:stretch/>
        </p:blipFill>
        <p:spPr>
          <a:xfrm>
            <a:off x="927000" y="1974960"/>
            <a:ext cx="3664080" cy="4289400"/>
          </a:xfrm>
          <a:prstGeom prst="rect">
            <a:avLst/>
          </a:prstGeom>
          <a:ln w="0">
            <a:noFill/>
          </a:ln>
        </p:spPr>
      </p:pic>
      <p:pic>
        <p:nvPicPr>
          <p:cNvPr id="395" name="文本框 101" descr=""/>
          <p:cNvPicPr/>
          <p:nvPr/>
        </p:nvPicPr>
        <p:blipFill>
          <a:blip r:embed="rId3"/>
          <a:stretch/>
        </p:blipFill>
        <p:spPr>
          <a:xfrm>
            <a:off x="4803840" y="2664000"/>
            <a:ext cx="6686640" cy="3797280"/>
          </a:xfrm>
          <a:prstGeom prst="rect">
            <a:avLst/>
          </a:prstGeom>
          <a:ln w="0">
            <a:noFill/>
          </a:ln>
        </p:spPr>
      </p:pic>
      <p:pic>
        <p:nvPicPr>
          <p:cNvPr id="396" name="文本框 4" descr=""/>
          <p:cNvPicPr/>
          <p:nvPr/>
        </p:nvPicPr>
        <p:blipFill>
          <a:blip r:embed="rId4"/>
          <a:stretch/>
        </p:blipFill>
        <p:spPr>
          <a:xfrm>
            <a:off x="1414440" y="517680"/>
            <a:ext cx="40165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1085760" y="341280"/>
            <a:ext cx="10271160" cy="858960"/>
          </a:xfrm>
          <a:prstGeom prst="rect">
            <a:avLst/>
          </a:prstGeom>
          <a:ln w="0">
            <a:noFill/>
          </a:ln>
        </p:spPr>
      </p:pic>
      <p:pic>
        <p:nvPicPr>
          <p:cNvPr id="398" name="内容占位符 3" descr=""/>
          <p:cNvPicPr/>
          <p:nvPr/>
        </p:nvPicPr>
        <p:blipFill>
          <a:blip r:embed="rId2"/>
          <a:stretch/>
        </p:blipFill>
        <p:spPr>
          <a:xfrm>
            <a:off x="1035000" y="1987560"/>
            <a:ext cx="3706920" cy="1879560"/>
          </a:xfrm>
          <a:prstGeom prst="rect">
            <a:avLst/>
          </a:prstGeom>
          <a:ln w="0">
            <a:noFill/>
          </a:ln>
        </p:spPr>
      </p:pic>
      <p:pic>
        <p:nvPicPr>
          <p:cNvPr id="399" name="文本框 101" descr=""/>
          <p:cNvPicPr/>
          <p:nvPr/>
        </p:nvPicPr>
        <p:blipFill>
          <a:blip r:embed="rId3"/>
          <a:stretch/>
        </p:blipFill>
        <p:spPr>
          <a:xfrm>
            <a:off x="5681520" y="1011240"/>
            <a:ext cx="5267520" cy="2622600"/>
          </a:xfrm>
          <a:prstGeom prst="rect">
            <a:avLst/>
          </a:prstGeom>
          <a:ln w="0">
            <a:noFill/>
          </a:ln>
        </p:spPr>
      </p:pic>
      <p:pic>
        <p:nvPicPr>
          <p:cNvPr id="400" name="文本框 4" descr=""/>
          <p:cNvPicPr/>
          <p:nvPr/>
        </p:nvPicPr>
        <p:blipFill>
          <a:blip r:embed="rId4"/>
          <a:stretch/>
        </p:blipFill>
        <p:spPr>
          <a:xfrm>
            <a:off x="5857920" y="3591000"/>
            <a:ext cx="5035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标题 1" descr=""/>
          <p:cNvPicPr/>
          <p:nvPr/>
        </p:nvPicPr>
        <p:blipFill>
          <a:blip r:embed="rId1"/>
          <a:stretch/>
        </p:blipFill>
        <p:spPr>
          <a:xfrm>
            <a:off x="1085760" y="341280"/>
            <a:ext cx="10271160" cy="858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文本框 3"/>
          <p:cNvSpPr/>
          <p:nvPr/>
        </p:nvSpPr>
        <p:spPr>
          <a:xfrm>
            <a:off x="1430280" y="2011320"/>
            <a:ext cx="975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通过对“朋友”两字的解读，我们可以将“朋友”的内涵理解为平等而友好的人际关系。平等意味着重视而非歧视对方；友好则意味着我们的言行举止不仅不会给他人带来伤害，带来痛苦，而且会给他人带来快乐和益处。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4" descr="23751654"/>
          <p:cNvPicPr/>
          <p:nvPr/>
        </p:nvPicPr>
        <p:blipFill>
          <a:blip r:embed="rId1"/>
          <a:stretch/>
        </p:blipFill>
        <p:spPr>
          <a:xfrm>
            <a:off x="7711920" y="95400"/>
            <a:ext cx="4496040" cy="227160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1133640" y="96840"/>
            <a:ext cx="10515600" cy="1573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241280" y="1533600"/>
            <a:ext cx="782352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1" sz="3600" spc="-1" strike="noStrike">
                <a:solidFill>
                  <a:srgbClr val="5f5f5f"/>
                </a:solidFill>
                <a:latin typeface="Arial"/>
              </a:rPr>
              <a:t>、朋友是什么？写一排比句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07" name="文本框 99" descr=""/>
          <p:cNvPicPr/>
          <p:nvPr/>
        </p:nvPicPr>
        <p:blipFill>
          <a:blip r:embed="rId3"/>
          <a:stretch/>
        </p:blipFill>
        <p:spPr>
          <a:xfrm>
            <a:off x="669960" y="2560680"/>
            <a:ext cx="10206000" cy="370692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4"/>
          <a:stretch/>
        </p:blipFill>
        <p:spPr>
          <a:xfrm>
            <a:off x="963720" y="347760"/>
            <a:ext cx="1039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1" name="文本框 3"/>
          <p:cNvSpPr/>
          <p:nvPr/>
        </p:nvSpPr>
        <p:spPr>
          <a:xfrm>
            <a:off x="1163520" y="393840"/>
            <a:ext cx="104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．说一说你心目中的朋友（按照分类，用词语概括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2" name="文本框 4"/>
          <p:cNvSpPr/>
          <p:nvPr/>
        </p:nvSpPr>
        <p:spPr>
          <a:xfrm>
            <a:off x="1060920" y="1441440"/>
            <a:ext cx="17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1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性格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文本框 5"/>
          <p:cNvSpPr/>
          <p:nvPr/>
        </p:nvSpPr>
        <p:spPr>
          <a:xfrm>
            <a:off x="1060920" y="2062080"/>
            <a:ext cx="17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2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语言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文本框 6"/>
          <p:cNvSpPr/>
          <p:nvPr/>
        </p:nvSpPr>
        <p:spPr>
          <a:xfrm>
            <a:off x="1429920" y="270180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3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感情（情感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5" name="文本框 7"/>
          <p:cNvSpPr/>
          <p:nvPr/>
        </p:nvSpPr>
        <p:spPr>
          <a:xfrm>
            <a:off x="1245600" y="3240000"/>
            <a:ext cx="23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4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为人处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6" name="文本框 8"/>
          <p:cNvSpPr/>
          <p:nvPr/>
        </p:nvSpPr>
        <p:spPr>
          <a:xfrm>
            <a:off x="1337760" y="3786120"/>
            <a:ext cx="25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（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5</a:t>
            </a: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）对我的态度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文本框 9"/>
          <p:cNvSpPr/>
          <p:nvPr/>
        </p:nvSpPr>
        <p:spPr>
          <a:xfrm>
            <a:off x="3344760" y="1289160"/>
            <a:ext cx="78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坦率   调皮   勇敢  保守  大胆   顽皮  无虑   悠闲   沉着   胆小  开朗  天真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------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文本框 10"/>
          <p:cNvSpPr/>
          <p:nvPr/>
        </p:nvSpPr>
        <p:spPr>
          <a:xfrm>
            <a:off x="4349880" y="3281400"/>
            <a:ext cx="76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实干认真  稳重冷静</a:t>
            </a:r>
            <a:r>
              <a:rPr b="0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平等互惠   </a:t>
            </a:r>
            <a:r>
              <a:rPr b="0" sz="2800" spc="-1" strike="noStrike">
                <a:solidFill>
                  <a:srgbClr val="ff0000"/>
                </a:solidFill>
                <a:latin typeface="Arial"/>
                <a:ea typeface="黑体"/>
              </a:rPr>
              <a:t>宽容他人，尊重差异</a:t>
            </a:r>
            <a:r>
              <a:rPr b="0" sz="2800" spc="-1" strike="noStrike">
                <a:solidFill>
                  <a:srgbClr val="ff0000"/>
                </a:solidFill>
                <a:latin typeface="Arial"/>
                <a:ea typeface="黑体"/>
              </a:rPr>
              <a:t>-----</a:t>
            </a:r>
            <a:r>
              <a:rPr b="0" sz="1800" spc="-1" strike="noStrike">
                <a:solidFill>
                  <a:srgbClr val="5f5f5f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文本框 11"/>
          <p:cNvSpPr/>
          <p:nvPr/>
        </p:nvSpPr>
        <p:spPr>
          <a:xfrm>
            <a:off x="7444080" y="324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8028360" y="3922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文本框 13"/>
          <p:cNvSpPr/>
          <p:nvPr/>
        </p:nvSpPr>
        <p:spPr>
          <a:xfrm>
            <a:off x="3073320" y="2214720"/>
            <a:ext cx="78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亲切感人、得体优雅、风趣幽默、自然质朴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------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2" name="文本框 14"/>
          <p:cNvSpPr/>
          <p:nvPr/>
        </p:nvSpPr>
        <p:spPr>
          <a:xfrm>
            <a:off x="5488200" y="2763720"/>
            <a:ext cx="31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开朗  天真   害羞、温顺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------</a:t>
            </a:r>
            <a:r>
              <a:rPr b="0" sz="2800" spc="-1" strike="noStrike">
                <a:solidFill>
                  <a:srgbClr val="5f5f5f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2509920" y="4289400"/>
            <a:ext cx="90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实在  热情   帮助照顾  关心体贴   坦诚相待，坚持原则</a:t>
            </a:r>
            <a:r>
              <a:rPr b="1" i="1" sz="2800" spc="-1" strike="noStrike">
                <a:solidFill>
                  <a:srgbClr val="ff0000"/>
                </a:solidFill>
                <a:latin typeface="Arial"/>
                <a:ea typeface="黑体"/>
              </a:rPr>
              <a:t>------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24" name="文本框 16" descr=""/>
          <p:cNvPicPr/>
          <p:nvPr/>
        </p:nvPicPr>
        <p:blipFill>
          <a:blip r:embed="rId1"/>
          <a:stretch/>
        </p:blipFill>
        <p:spPr>
          <a:xfrm>
            <a:off x="-42840" y="4840200"/>
            <a:ext cx="12503160" cy="1511280"/>
          </a:xfrm>
          <a:prstGeom prst="rect">
            <a:avLst/>
          </a:prstGeom>
          <a:ln w="0">
            <a:noFill/>
          </a:ln>
        </p:spPr>
      </p:pic>
      <p:sp>
        <p:nvSpPr>
          <p:cNvPr id="425" name="文本框 17"/>
          <p:cNvSpPr/>
          <p:nvPr/>
        </p:nvSpPr>
        <p:spPr>
          <a:xfrm>
            <a:off x="326520" y="4289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Arial"/>
                <a:ea typeface="黑体"/>
              </a:rPr>
              <a:t>小结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文本框 3"/>
          <p:cNvSpPr/>
          <p:nvPr/>
        </p:nvSpPr>
        <p:spPr>
          <a:xfrm>
            <a:off x="1241280" y="2011320"/>
            <a:ext cx="1036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黑体"/>
              </a:rPr>
              <a:t>《礼记 学记》中说：“独学而无友，则孤陋寡闻。”交个好朋友，可以相互帮助，共同成长。与朋友交往的第一步就是要展示自己，现在我们开始自我介绍，让朋友认识不一样的你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黑体"/>
              </a:rPr>
              <a:t>（先小组内发言，然后每组选一名同学全班发言。）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29" name="标题 1" descr=""/>
          <p:cNvPicPr/>
          <p:nvPr/>
        </p:nvPicPr>
        <p:blipFill>
          <a:blip r:embed="rId1"/>
          <a:stretch/>
        </p:blipFill>
        <p:spPr>
          <a:xfrm>
            <a:off x="-109440" y="-23760"/>
            <a:ext cx="10710720" cy="1560600"/>
          </a:xfrm>
          <a:prstGeom prst="rect">
            <a:avLst/>
          </a:prstGeom>
          <a:ln w="0">
            <a:noFill/>
          </a:ln>
        </p:spPr>
      </p:pic>
      <p:pic>
        <p:nvPicPr>
          <p:cNvPr id="430" name="标题 1" descr=""/>
          <p:cNvPicPr/>
          <p:nvPr/>
        </p:nvPicPr>
        <p:blipFill>
          <a:blip r:embed="rId2"/>
          <a:stretch/>
        </p:blipFill>
        <p:spPr>
          <a:xfrm>
            <a:off x="963720" y="347760"/>
            <a:ext cx="1039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文本框 3"/>
          <p:cNvSpPr/>
          <p:nvPr/>
        </p:nvSpPr>
        <p:spPr>
          <a:xfrm>
            <a:off x="3609360" y="1239840"/>
            <a:ext cx="6215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、请认真填写好课本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黑体"/>
              </a:rPr>
              <a:t>页《评价表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2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作业：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作文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(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必做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)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：将活动中的自我介绍写成一篇习作，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或者为你的朋友写一篇介绍文字。不少于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400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字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实践作业（选作）：将自己搜集到的朋友相关资料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整理成手抄小报，班级展示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3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推荐阅读欣赏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   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A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 复旦大学陈果老师的视频：孤独与朋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    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B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培根《论友情》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C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、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cctv </a:t>
            </a:r>
            <a:r>
              <a:rPr b="0" sz="3600" spc="-1" strike="noStrike">
                <a:solidFill>
                  <a:srgbClr val="5f5f5f"/>
                </a:solidFill>
                <a:latin typeface="Arial"/>
                <a:ea typeface="黑体"/>
              </a:rPr>
              <a:t>青年公开课《开讲啦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4" name="标题 1" descr=""/>
          <p:cNvPicPr/>
          <p:nvPr/>
        </p:nvPicPr>
        <p:blipFill>
          <a:blip r:embed="rId1"/>
          <a:stretch/>
        </p:blipFill>
        <p:spPr>
          <a:xfrm>
            <a:off x="963720" y="347760"/>
            <a:ext cx="1039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7" name="文本框 6"/>
          <p:cNvSpPr/>
          <p:nvPr/>
        </p:nvSpPr>
        <p:spPr>
          <a:xfrm>
            <a:off x="1074600" y="2089080"/>
            <a:ext cx="10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宋体"/>
                <a:ea typeface="宋体"/>
              </a:rPr>
              <a:t>      </a:t>
            </a:r>
            <a:r>
              <a:rPr b="1" sz="3600" spc="-1" strike="noStrike">
                <a:solidFill>
                  <a:srgbClr val="ff0000"/>
                </a:solidFill>
                <a:latin typeface="宋体"/>
                <a:ea typeface="宋体"/>
              </a:rPr>
              <a:t>同学们，生活需要友情，人生需要朋友。生活中我们要交真友，善交好友，多交益友。在网络的虚拟世界里，我们更需要警惕邪恶，防止虚伪，反对背叛。愿你的人生友情常伴，有爱相随。最后让我们聆听一首歌曲来作结吧！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8" name="标题 1" descr=""/>
          <p:cNvPicPr/>
          <p:nvPr/>
        </p:nvPicPr>
        <p:blipFill>
          <a:blip r:embed="rId1"/>
          <a:stretch/>
        </p:blipFill>
        <p:spPr>
          <a:xfrm>
            <a:off x="963720" y="347760"/>
            <a:ext cx="1039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文本框 6"/>
          <p:cNvSpPr/>
          <p:nvPr/>
        </p:nvSpPr>
        <p:spPr>
          <a:xfrm>
            <a:off x="6966000" y="212760"/>
            <a:ext cx="4738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这些年一个人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风也过雨也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有过泪有过错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还记得坚持甚么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真爱过才会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会寂寞会回首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终有你终有梦在心中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朋友不曾孤单过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一声朋友你会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还有伤还有痛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还要走还有我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这些年一个人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宋体"/>
              </a:rPr>
              <a:t>风也过雨也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标题 1"/>
          <p:cNvSpPr/>
          <p:nvPr/>
        </p:nvSpPr>
        <p:spPr>
          <a:xfrm>
            <a:off x="1241280" y="393840"/>
            <a:ext cx="10112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42" name="内容占位符 2" descr="周华健"/>
          <p:cNvPicPr/>
          <p:nvPr/>
        </p:nvPicPr>
        <p:blipFill>
          <a:blip r:embed="rId1"/>
          <a:stretch/>
        </p:blipFill>
        <p:spPr>
          <a:xfrm>
            <a:off x="2516040" y="279360"/>
            <a:ext cx="3867120" cy="5810400"/>
          </a:xfrm>
          <a:prstGeom prst="rect">
            <a:avLst/>
          </a:prstGeom>
          <a:ln w="0">
            <a:noFill/>
          </a:ln>
        </p:spPr>
      </p:pic>
      <p:pic>
        <p:nvPicPr>
          <p:cNvPr id="443" name="矩形 3" descr=""/>
          <p:cNvPicPr/>
          <p:nvPr/>
        </p:nvPicPr>
        <p:blipFill>
          <a:blip r:embed="rId2"/>
          <a:stretch/>
        </p:blipFill>
        <p:spPr>
          <a:xfrm>
            <a:off x="225360" y="469800"/>
            <a:ext cx="2054160" cy="5997600"/>
          </a:xfrm>
          <a:prstGeom prst="rect">
            <a:avLst/>
          </a:prstGeom>
          <a:ln w="0">
            <a:noFill/>
          </a:ln>
        </p:spPr>
      </p:pic>
      <p:pic>
        <p:nvPicPr>
          <p:cNvPr id="444" name="周华健 - 朋友 (Live).mp3" descr=""/>
          <p:cNvPicPr/>
          <p:nvPr/>
        </p:nvPicPr>
        <p:blipFill>
          <a:blip r:embed="rId3"/>
          <a:stretch/>
        </p:blipFill>
        <p:spPr>
          <a:xfrm>
            <a:off x="4127400" y="4613400"/>
            <a:ext cx="131148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69322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57" name="内容占位符 3" descr="20131227090426-393362943"/>
          <p:cNvPicPr/>
          <p:nvPr/>
        </p:nvPicPr>
        <p:blipFill>
          <a:blip r:embed="rId1"/>
          <a:stretch/>
        </p:blipFill>
        <p:spPr>
          <a:xfrm>
            <a:off x="-25560" y="3240"/>
            <a:ext cx="121795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39680" y="267840"/>
            <a:ext cx="101124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Arial"/>
              </a:rPr>
              <a:t>活动目标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文本框 100"/>
          <p:cNvSpPr/>
          <p:nvPr/>
        </p:nvSpPr>
        <p:spPr>
          <a:xfrm>
            <a:off x="738360" y="822240"/>
            <a:ext cx="1061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学会搜集整理资料。                                                                         </a:t>
            </a:r>
            <a:r>
              <a:rPr b="1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学会用准确、生动、文明、得体的语言进行交流。        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学会与人合作，能用文字、语言展示自己的学习成果。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培养友情，理解交友之道。了解“朋友”的内涵，学会与别人交朋友。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标题 1" descr=""/>
          <p:cNvPicPr/>
          <p:nvPr/>
        </p:nvPicPr>
        <p:blipFill>
          <a:blip r:embed="rId1"/>
          <a:stretch/>
        </p:blipFill>
        <p:spPr>
          <a:xfrm>
            <a:off x="963720" y="347760"/>
            <a:ext cx="10393200" cy="12859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文本框 99"/>
          <p:cNvSpPr/>
          <p:nvPr/>
        </p:nvSpPr>
        <p:spPr>
          <a:xfrm>
            <a:off x="1057320" y="1346040"/>
            <a:ext cx="43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交流收获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63" name="文本框 2" descr=""/>
          <p:cNvPicPr/>
          <p:nvPr/>
        </p:nvPicPr>
        <p:blipFill>
          <a:blip r:embed="rId2"/>
          <a:stretch/>
        </p:blipFill>
        <p:spPr>
          <a:xfrm>
            <a:off x="1054080" y="2657520"/>
            <a:ext cx="9522000" cy="2060640"/>
          </a:xfrm>
          <a:prstGeom prst="rect">
            <a:avLst/>
          </a:prstGeom>
          <a:ln w="0">
            <a:noFill/>
          </a:ln>
        </p:spPr>
      </p:pic>
      <p:sp>
        <p:nvSpPr>
          <p:cNvPr id="364" name="文本框 3"/>
          <p:cNvSpPr/>
          <p:nvPr/>
        </p:nvSpPr>
        <p:spPr>
          <a:xfrm>
            <a:off x="1241280" y="4484520"/>
            <a:ext cx="994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要求：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每组只选择一方面互相交流后整理在活页纸上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每组派一名代表上台展示自己的学习成果，时间控制在三分钟左右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32832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200" spc="-1" strike="noStrike">
                <a:solidFill>
                  <a:srgbClr val="47b6e7"/>
                </a:solidFill>
                <a:latin typeface="Arial"/>
              </a:rPr>
              <a:t>成语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文本框 3"/>
          <p:cNvSpPr/>
          <p:nvPr/>
        </p:nvSpPr>
        <p:spPr>
          <a:xfrm>
            <a:off x="1324080" y="1598760"/>
            <a:ext cx="9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胆相照、情同手足、志同道合、风雨同舟、荣辱与共、同甘共苦、生死之交、莫逆之交、义结金兰</a:t>
            </a:r>
            <a:r>
              <a:rPr b="1" sz="4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67" name="文本框 4" descr=""/>
          <p:cNvPicPr/>
          <p:nvPr/>
        </p:nvPicPr>
        <p:blipFill>
          <a:blip r:embed="rId1"/>
          <a:stretch/>
        </p:blipFill>
        <p:spPr>
          <a:xfrm>
            <a:off x="1255680" y="4316400"/>
            <a:ext cx="9809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9" name="文本框 100"/>
          <p:cNvSpPr/>
          <p:nvPr/>
        </p:nvSpPr>
        <p:spPr>
          <a:xfrm>
            <a:off x="803160" y="1117440"/>
            <a:ext cx="1077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内存知己，天涯若比邻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勃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劝君更尽一杯酒，西出阳关无故人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维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潭水深千尺，不及汪伦送我情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愁前路无知己， 天下谁人不识君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生所贵在知己，四海相逢骨肉亲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贺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文本框 4"/>
          <p:cNvSpPr/>
          <p:nvPr/>
        </p:nvSpPr>
        <p:spPr>
          <a:xfrm>
            <a:off x="993600" y="438120"/>
            <a:ext cx="50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齐声诵读以下优美诗文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1" name="文本框 5"/>
          <p:cNvSpPr/>
          <p:nvPr/>
        </p:nvSpPr>
        <p:spPr>
          <a:xfrm>
            <a:off x="993600" y="4275000"/>
            <a:ext cx="103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70c0"/>
                </a:solidFill>
                <a:latin typeface="宋体"/>
                <a:ea typeface="宋体"/>
              </a:rPr>
              <a:t>你搜集的有关交友的诗句，有与上述诗句不同的，请大声读给其他同学听一听！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" name="标题 1"/>
          <p:cNvSpPr/>
          <p:nvPr/>
        </p:nvSpPr>
        <p:spPr>
          <a:xfrm>
            <a:off x="9115560" y="317520"/>
            <a:ext cx="22381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200" spc="-1" strike="noStrike">
                <a:solidFill>
                  <a:srgbClr val="47b6e7"/>
                </a:solidFill>
                <a:latin typeface="Arial"/>
              </a:rPr>
              <a:t>诗文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5" name="文本框 2"/>
          <p:cNvSpPr/>
          <p:nvPr/>
        </p:nvSpPr>
        <p:spPr>
          <a:xfrm>
            <a:off x="974880" y="952560"/>
            <a:ext cx="106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子敬而无失，与人恭而有礼，四海之内皆兄弟也。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语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颜渊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文本框 3"/>
          <p:cNvSpPr/>
          <p:nvPr/>
        </p:nvSpPr>
        <p:spPr>
          <a:xfrm>
            <a:off x="981000" y="2049480"/>
            <a:ext cx="104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70c0"/>
                </a:solidFill>
                <a:latin typeface="宋体"/>
                <a:ea typeface="宋体"/>
              </a:rPr>
              <a:t>赏析：只要提高自己的道德修养，对工作认真负责，不出差错，和人交往态度恭谨而合乎礼节，别人就都乐于与自己交朋友，那么，普天之下到处都是你的朋友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文本框 4"/>
          <p:cNvSpPr/>
          <p:nvPr/>
        </p:nvSpPr>
        <p:spPr>
          <a:xfrm>
            <a:off x="974880" y="3603600"/>
            <a:ext cx="98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朱者赤，近墨者黑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语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8" name="文本框 5"/>
          <p:cNvSpPr/>
          <p:nvPr/>
        </p:nvSpPr>
        <p:spPr>
          <a:xfrm>
            <a:off x="1039680" y="4245120"/>
            <a:ext cx="101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70c0"/>
                </a:solidFill>
                <a:latin typeface="宋体"/>
                <a:ea typeface="宋体"/>
              </a:rPr>
              <a:t>赏析：比喻接近好人可以使人变好，接近坏人可以使人变坏。指客观环境对人有很大影响。说明交友的重要性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标题 1"/>
          <p:cNvSpPr/>
          <p:nvPr/>
        </p:nvSpPr>
        <p:spPr>
          <a:xfrm>
            <a:off x="669960" y="193680"/>
            <a:ext cx="4411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200" spc="-1" strike="noStrike">
                <a:solidFill>
                  <a:srgbClr val="47b6e7"/>
                </a:solidFill>
                <a:latin typeface="Arial"/>
              </a:rPr>
              <a:t>名言警句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28480" y="153324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2" name="文本框 6"/>
          <p:cNvSpPr/>
          <p:nvPr/>
        </p:nvSpPr>
        <p:spPr>
          <a:xfrm>
            <a:off x="711360" y="3073320"/>
            <a:ext cx="10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sz="3600" spc="-1" strike="noStrike">
                <a:solidFill>
                  <a:srgbClr val="ff0000"/>
                </a:solidFill>
                <a:latin typeface="宋体"/>
                <a:ea typeface="宋体"/>
              </a:rPr>
              <a:t>课后整理你所搜集的名言警句。（能够说出自己的赏析更好，摘抄到读书笔记上。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文本框 2"/>
          <p:cNvSpPr/>
          <p:nvPr/>
        </p:nvSpPr>
        <p:spPr>
          <a:xfrm>
            <a:off x="4527000" y="279360"/>
            <a:ext cx="31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．独学而无友，则孤陋而寡闻。——《礼记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sz="3600" spc="-1" strike="noStrike">
                <a:solidFill>
                  <a:srgbClr val="000000"/>
                </a:solidFill>
                <a:latin typeface="宋体"/>
                <a:ea typeface="宋体"/>
              </a:rPr>
              <a:t>学记》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文本框 3"/>
          <p:cNvSpPr/>
          <p:nvPr/>
        </p:nvSpPr>
        <p:spPr>
          <a:xfrm>
            <a:off x="5755680" y="920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70c0"/>
                </a:solidFill>
                <a:latin typeface="宋体"/>
                <a:ea typeface="宋体"/>
              </a:rPr>
              <a:t>赏析：交个好朋友，可以相互帮助，共同成长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文本框 4"/>
          <p:cNvSpPr/>
          <p:nvPr/>
        </p:nvSpPr>
        <p:spPr>
          <a:xfrm>
            <a:off x="941400" y="3695760"/>
            <a:ext cx="10247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41280" y="393840"/>
            <a:ext cx="1011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317240" y="2304720"/>
            <a:ext cx="97599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请同学们利用业余时间，用现代汉语讲述课本第</a:t>
            </a: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34</a:t>
            </a:r>
            <a:r>
              <a:rPr b="1" sz="3300" spc="-1" strike="noStrike">
                <a:solidFill>
                  <a:srgbClr val="ff0000"/>
                </a:solidFill>
                <a:latin typeface="宋体"/>
                <a:ea typeface="宋体"/>
              </a:rPr>
              <a:t>页故事典故给你的父母和兄弟姐妹听。</a:t>
            </a:r>
            <a:endParaRPr b="0" lang="en-US" sz="33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标题 1"/>
          <p:cNvSpPr/>
          <p:nvPr/>
        </p:nvSpPr>
        <p:spPr>
          <a:xfrm>
            <a:off x="739800" y="835200"/>
            <a:ext cx="4411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200" spc="-1" strike="noStrike">
                <a:solidFill>
                  <a:srgbClr val="47b6e7"/>
                </a:solidFill>
                <a:latin typeface="Arial"/>
              </a:rPr>
              <a:t>故事</a:t>
            </a:r>
            <a:endParaRPr b="0" lang="en-US" sz="7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6:37:21Z</dcterms:created>
  <dc:creator>Administrator</dc:creator>
  <dc:description/>
  <cp:keywords/>
  <dc:language>en-US</dc:language>
  <cp:lastModifiedBy>User</cp:lastModifiedBy>
  <dcterms:modified xsi:type="dcterms:W3CDTF">2017-09-26T07:25:46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